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B3A-990A-406E-A215-4B4C7C52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8D6-0097-4E18-9D9F-A6897B2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D2D-23BC-4B7A-8DA1-86187B35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EC8-FFCB-434A-AB7C-D1E811D4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9E9-3957-4E96-BBF8-2C82A7B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B07-3980-4406-BD5C-F05E7D9A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A0F-3E77-4897-877C-F50B1C6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820-E94A-446C-8ADE-CD658E48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C4A-EBFB-45C1-AA62-3529664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53A-5C03-4973-87E3-CEE70952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9B9-5C06-4EE8-BB27-B739B281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D62-A087-4997-B32D-6C97B625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AF7-E993-4019-8DAC-50C9D75D18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我们爱你啊，中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6.2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爱你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奋斗书写的史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汗水浇灌的硕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树的伟岸、梅花的高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博大的胸怀、恢弘的气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骄傲，我们自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奋发，我们开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是世界民族之林的强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爱你啊，中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下面的词语说说你熟悉的祖国的山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奇俊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妆淡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雾飘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澜壮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1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脊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ǐ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恢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ī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魄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u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38320" y="380880"/>
            <a:ext cx="2971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妆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ā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傣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ǎ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弘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1371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生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240" y="475920"/>
            <a:ext cx="66294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装素裹  桂林  杭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妆淡抹  飘渺  波澜壮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醇美  绚丽  傣家  屋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册  恢弘  气魄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奋发  开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577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中华人民共和国地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6191280" cy="748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灿烂的太阳跳出东海的碧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帕米尔高原依然是群星闪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北国还是银装素裹的世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疆早已洋溢着盎然的春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，我们爱你，中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爱你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桂林山水的清奇俊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杭州西湖的浓妆淡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山、庐山的云雾飘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江、黄河的波澜壮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爱你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龙井茶的清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茅台酒的醇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江南丝绸的光洁绚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景德镇陶瓷的天工巧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爱你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傣家竹楼前如水的月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界屋脊上布达拉宫的巍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吐鲁番的葡萄、哈密的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草原的羊群、戈壁滩的骆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866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们爱你啊，中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0" y="549000"/>
            <a:ext cx="60958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爱你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国编钟奏出的古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革开放谱写的新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州万里涌动的滚滚春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祖国大地燃起的希望之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16:06Z</dcterms:created>
  <dc:creator>wph</dc:creator>
  <dc:description/>
  <dc:language>en-US</dc:language>
  <cp:lastModifiedBy>user</cp:lastModifiedBy>
  <dcterms:modified xsi:type="dcterms:W3CDTF">2006-02-10T00:43:01Z</dcterms:modified>
  <cp:revision>11</cp:revision>
  <dc:subject/>
  <dc:title>1 我们爱你啊，中国</dc:title>
</cp:coreProperties>
</file>